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dt" idx="37"/>
          </p:nvPr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sldImg"/>
          </p:nvPr>
        </p:nvSpPr>
        <p:spPr>
          <a:xfrm>
            <a:off x="8949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ftr" idx="38"/>
          </p:nvPr>
        </p:nvSpPr>
        <p:spPr>
          <a:xfrm>
            <a:off x="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 type="sldNum" idx="39"/>
          </p:nvPr>
        </p:nvSpPr>
        <p:spPr>
          <a:xfrm>
            <a:off x="377964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7BA4-DC4C-4927-A012-3DC75A8F8C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ave a common understanding of R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an explain and apply RBM concepts to both programme and operations results frame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78000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C61D-722F-49E2-90D5-F9E52B7A05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graphic show a “regular BoS approach. Actual time varies depending on the scope of the B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78000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86C9-9D79-49A8-9A6F-62354BD4E3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8702-443A-431D-9DB1-D055E01D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DFAE-850E-4BDE-9E6C-0BB61B89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FCBC-2D62-424F-9591-3D41E917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C887-D48D-4B41-852F-CB78AE82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EF31-5410-42A2-978E-D655DA06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1785-4C50-4F99-817D-96B6A9A7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F503-27EC-476C-B7A0-950C1322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5B60-661A-435B-8F1B-314AEB08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8C33-9BE8-4DDB-8AAD-FCED78AF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1ECE-AAA0-4035-83FF-7A8A331D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0653-C390-4D13-98E0-DFF67D7C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033B-C3CE-418A-8082-FD79A35B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8577-E35C-476B-9592-BFCDB0F1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F266-8E9C-4FCE-AD19-F236ACF9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5E21-009E-47E4-90F2-65076B2D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0BD3C-C920-42F5-BC28-C5C482A5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F954-26F3-4BE0-928C-80055404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BE57E-4242-43C2-BA8D-0A4A8C64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19787-D816-4C1D-B0A4-F54D4DC0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7481C-8EA4-49A0-BA04-21956AC8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C851-DD45-4075-BF60-9BAE0A39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B09B-C101-4008-AEB8-A6EF85B4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D8253-950B-4019-BD6F-EBF3ABE1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5775-959D-4CD7-9C3B-7A6501CC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15549-005F-4884-A352-2BFE408D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40ECF-6D48-44D6-9FD6-1AB04EF3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43662-8A2D-41B0-9A5B-64AA7F44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E877B-A4E0-4889-AF9C-5349BA3C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BC9BD-51CD-4ECA-9DB7-17DC8232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A6DBA-8BD2-4CDB-B30E-CA452FEF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1CF98-AD44-48E0-8FA2-DCA218AF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9CB64-23F6-424A-841C-CB6E5164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48ED4-0217-4477-907E-6A461DE8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53151-6915-47EC-AB95-AC462A57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D391A-A491-4953-A477-33194ADE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59739-35B8-4099-8915-B7A32821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1D64E-1921-4529-B2AA-F50D5740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11101-8494-4AC8-9F81-609BC2AA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41D34-03C9-4835-951D-4C705BF3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C44ED-38F3-468C-8DFC-DB02C7A9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85483-0F36-485D-8E18-E3E0DA35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58B1A-E03F-4080-B46E-06BAD64A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09580-6A69-4B82-8BA9-075A3F2A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4D32F-5DE2-4005-8ADC-958C4E95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ACB35-6458-4877-AC43-1ADC63F3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6CEA1-DC07-4950-B5B4-A1015EEC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275F1-CC7F-4B8B-8C38-D0F83EB8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10638-D031-418A-A238-3B745A43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21A15-CB56-4C8F-8E3E-77E55415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C3E41-C232-4570-8EDD-1E25580D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AFB6C-BFA4-4616-BBC6-C3785C21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04708-AE83-4AA6-ACA9-C37D36B5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4C8F6-2E66-4CCC-B4E4-EAC3BC9E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C9490-5173-4582-A9D2-D656FD97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9089C-7617-4353-A969-EFC8FCDB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E8ECB-865C-44C1-BF82-B724B078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CA306-FE4A-430E-A191-6DD733FF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9ECB8-D081-4B89-B9F9-A0E9F977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1700B-B126-496F-8F3C-96588A19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D657D-9362-4C20-BBD1-0536A023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9E642-213C-42E1-AD59-0719DFF6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DA25E-ADE9-4A2E-992D-E07E9B4B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E9E9A-6F8D-4685-BA11-F9288524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B1C39-8BB4-4C12-A742-628BCADD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BF448-2D35-423B-AB06-B9B9F773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13E3F-6375-4D60-BDB7-249C1CCF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B5608-B586-41FC-A74B-7AE95BDC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AB42F-5429-4980-B1C0-DF49E9E7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D9F8F-067F-4BCF-8E52-C7389001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1078A-8165-4C8D-9556-A2AF315C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8B31F-8D58-4D9D-A850-83E2ACA4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3007A-D085-49AF-B494-8F22E1C9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57F24-3BDB-462F-A9E7-0E8287EE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1AC82-77A1-48B2-9309-6EF68D3E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0B369-DE31-49EE-AC93-FD8F52B6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C3ADA-DFD8-49AC-A1C9-8E13CE06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DC8D7-7119-41A0-ACEB-F1FEC0A7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D58C4-4D5D-4821-9F3E-1666885F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5CD75-D7CC-4F61-A833-0CD41B63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8585D-0A8F-47DF-84CE-887176F9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CB9A5-33F6-435E-AD29-F14E89CC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7FB09-E40E-41D9-B3FC-7F6F77C2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FBF81-AFCE-4EAD-8B56-1D567865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2DC55-8D34-4BB0-A19C-9B33B5B7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96523-8040-402B-BC8D-DD20D07C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5161D-7AED-42A0-B4D0-8E64543C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D17AB-2345-42D5-BB61-59B1AD55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C08D4-54C2-4394-8ED1-575578A8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D0F66-71C2-40D4-A045-2F19F03E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3199F-2EBB-4860-8E94-3620458F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D7C31-9FE4-415D-856A-AD5EE6FE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4BF8C-F13D-484A-A95D-8D6F2374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96956-908B-49AF-97F6-E492D6CE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CD478-EC4C-4022-B613-5F278C86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7B41F-52F5-4A8F-A428-4EE502A5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AE3A3-74AF-4EEF-B5EF-2DAE3069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8B7E7-89D9-490D-8041-518A7070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3A6C8-2FAD-4476-853E-EED0EFA3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CBA5C-8D87-4458-AC75-BD1AB30C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8C30F-C80D-4952-99B5-E233400B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D8E05-0372-4C45-92CD-C3E2B548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4CD3C-B751-457B-A730-D16F899D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A30FB-1D71-421E-A410-CE2FB04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67AD6-DAE4-4D54-92C9-BAFF141B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67DA0-DC9C-45B8-BEC6-EE181C79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D5115-2F78-4666-8AA4-4C9DD1EA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2FCD9-D0EC-4DF9-912E-291008DE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6637A-1720-4E79-ABA9-E5E3656E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E0779-8C2F-4106-979D-FFD6E488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B9ADD-4571-4126-85A0-BE098DFE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33E93-CB9D-4967-99FC-61188139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5A749-0C55-45E3-999A-5ABE1CA8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D613C-0DAB-421F-AF04-2A946E26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F516C-C58E-4F13-AE36-64B71830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11E33-1215-4F61-93A9-A5B6EE79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43C0B-075E-4275-87E5-30FEBD31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3CBCD-F498-4E38-9195-67C006DB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E8E00-FB09-4344-A7FA-94A2D186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7218B-A57D-43D6-A118-F5044BE6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1640F-AC6F-4794-9583-9F474B20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D84B9-7D7E-42C2-830A-DD8EEA1A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6C1B5-2316-4B7B-AD25-FDE93550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A552D-0FD1-4F5F-8E51-90B6CF83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70031-F192-4A2E-91E6-F4164223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F8795-FF25-4537-91E9-D22FBAA2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2DFF2-81F7-4ABD-B84C-C546A20B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75A06-A076-4746-8BC7-A6872391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4A4BF-D674-483E-B97B-5954B4F4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63AFD-DE29-464B-A420-D3AC65EC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271DC-D519-4E08-B6BF-CDCF4F53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7EB7F-8F88-47A4-BB3C-6B51F8FA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497E5-517F-4F3F-A2AE-D91F9331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372-329D-4FE5-8603-2C65E8BF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FF4-251A-444A-90B7-3ECE0556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3D5-F25B-4190-A301-F4BE9AFC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429-459D-4A3B-9256-005B03A2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9D5-59CC-4D66-ACAF-6D67E769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D8A-4B4E-45F2-B230-7A97BC99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E64-463D-46B3-996D-B10AFE24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7CD-1B79-43D0-9328-63B08BA1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F2B3-C63A-4C15-8348-DFD1BBBC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88C-C32C-4708-8610-5387B502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04B-F43D-4B82-96E0-F77155F7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E91-6F7A-4BB7-8C7D-B7F641CD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A8EF-085B-46CB-BB70-BFCBBA0309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0F00-D910-4624-9F12-53D3ACF43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C530-D7ED-4D64-BF38-B439C6CC4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2EF0-3E4E-49CD-99CC-4065999100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6CF7-AB39-43D4-B5DA-9BE51C4D3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6AB9-03CF-47DC-855F-B225238DF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E6AF-C18A-4ACD-ADCE-C503D1999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0D30-E2BC-4D38-BAFB-D4F837D101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9490-5B95-414E-B3E9-109C53D86F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9489-8D12-4FEB-86A1-B27FAA229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3A89-DB97-490F-88AC-1515DE753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3"/>
          <a:stretch/>
        </p:blipFill>
        <p:spPr>
          <a:xfrm>
            <a:off x="8244000" y="6194520"/>
            <a:ext cx="649080" cy="50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DOCO new logo"/>
          <p:cNvPicPr/>
          <p:nvPr/>
        </p:nvPicPr>
        <p:blipFill>
          <a:blip r:embed="rId4"/>
          <a:stretch/>
        </p:blipFill>
        <p:spPr>
          <a:xfrm>
            <a:off x="128520" y="6346800"/>
            <a:ext cx="194472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E69E-62D3-4ABE-AD7B-FCDB5B335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4" descr="banda_template"/>
          <p:cNvPicPr/>
          <p:nvPr/>
        </p:nvPicPr>
        <p:blipFill>
          <a:blip r:embed="rId2"/>
          <a:stretch/>
        </p:blipFill>
        <p:spPr>
          <a:xfrm>
            <a:off x="0" y="431640"/>
            <a:ext cx="9145440" cy="88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logo"/>
          <p:cNvPicPr/>
          <p:nvPr/>
        </p:nvPicPr>
        <p:blipFill>
          <a:blip r:embed="rId3"/>
          <a:stretch/>
        </p:blipFill>
        <p:spPr>
          <a:xfrm>
            <a:off x="7808760" y="431640"/>
            <a:ext cx="900360" cy="9003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5" descr="cover_template"/>
          <p:cNvPicPr/>
          <p:nvPr/>
        </p:nvPicPr>
        <p:blipFill>
          <a:blip r:embed="rId2"/>
          <a:stretch/>
        </p:blipFill>
        <p:spPr>
          <a:xfrm>
            <a:off x="0" y="0"/>
            <a:ext cx="9145440" cy="6842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DOCO new logo"/>
          <p:cNvPicPr/>
          <p:nvPr/>
        </p:nvPicPr>
        <p:blipFill>
          <a:blip r:embed="rId3"/>
          <a:stretch/>
        </p:blipFill>
        <p:spPr>
          <a:xfrm>
            <a:off x="179280" y="620640"/>
            <a:ext cx="2808360" cy="50796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31640" y="179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042920" y="577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67840" y="3031920"/>
            <a:ext cx="879948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NDG Business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B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1027"/>
          <p:cNvSpPr/>
          <p:nvPr/>
        </p:nvSpPr>
        <p:spPr>
          <a:xfrm>
            <a:off x="1785960" y="5229360"/>
            <a:ext cx="5943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5395"/>
                </a:solidFill>
                <a:latin typeface="Arial"/>
              </a:rPr>
              <a:t>Advanced Business Operations Trai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5395"/>
                </a:solidFill>
                <a:latin typeface="Arial"/>
              </a:rPr>
              <a:t>Kabul, Afghanistan November 2014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57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Lessons Learned BOS- Pilo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13"/>
          <p:cNvSpPr/>
          <p:nvPr/>
        </p:nvSpPr>
        <p:spPr>
          <a:xfrm rot="5400000">
            <a:off x="3929400" y="3855240"/>
            <a:ext cx="1086120" cy="3259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15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5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ssons Learned BOS- Pi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pturing the dat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hard work. Needs to be real commitment and leadership to get this done. worth considering getting external hel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urement people seem to prefer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ain their individual relationshi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suppli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staff turnover there is a regular need to re-explain and re-advocate for BOS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pacity development /Regular training should be provid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reinforce the strategic management of programme and operations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rterly UN induction train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Common Business Ops organised as a common staff development action (under the HR component of the BOS) is very much recommen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M&amp;E TWG should be enhanc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llow for better planning and monitoring (of programme as well as operational activiti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9:07:36Z</dcterms:created>
  <dc:creator>goodale</dc:creator>
  <dc:description/>
  <dc:language>en-US</dc:language>
  <cp:lastModifiedBy>Lars Tushuizen</cp:lastModifiedBy>
  <cp:lastPrinted>2013-04-23T17:01:54Z</cp:lastPrinted>
  <dcterms:modified xsi:type="dcterms:W3CDTF">2014-11-20T16:47:31Z</dcterms:modified>
  <cp:revision>993</cp:revision>
  <dc:subject/>
  <dc:title>PowerPoint Presentation</dc:title>
</cp:coreProperties>
</file>